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5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2.png" ContentType="image/png"/>
  <Override PartName="/ppt/media/image25.png" ContentType="image/png"/>
  <Override PartName="/ppt/media/image4.jpeg" ContentType="image/jpeg"/>
  <Override PartName="/ppt/media/image14.jpeg" ContentType="image/jpeg"/>
  <Override PartName="/ppt/media/image8.png" ContentType="image/png"/>
  <Override PartName="/ppt/media/image12.jpeg" ContentType="image/jpeg"/>
  <Override PartName="/ppt/media/image13.jpeg" ContentType="image/jpeg"/>
  <Override PartName="/ppt/media/image29.png" ContentType="image/png"/>
  <Override PartName="/ppt/media/image30.png" ContentType="image/png"/>
  <Override PartName="/ppt/media/image3.jpeg" ContentType="image/jpeg"/>
  <Override PartName="/ppt/media/image11.png" ContentType="image/png"/>
  <Override PartName="/ppt/media/image9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23.png" ContentType="image/png"/>
  <Override PartName="/ppt/media/push.wav" ContentType="audio/x-wav"/>
  <Override PartName="/ppt/media/image19.png" ContentType="image/png"/>
  <Override PartName="/ppt/media/image21.png" ContentType="image/png"/>
  <Override PartName="/ppt/media/image22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15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<Relationship Id="rId26" Type="http://schemas.openxmlformats.org/officeDocument/2006/relationships/commentAuthors" Target="commentAuthors.xml"/>
</Relationships>
</file>

<file path=ppt/comments/comment15.xml><?xml version="1.0" encoding="utf-8"?>
<p:cmLst xmlns:p="http://schemas.openxmlformats.org/presentationml/2006/main">
  <p:cm authorId="0" dt="2016-08-19T15:45:36.146000000" idx="1">
    <p:pos x="1479" y="628"/>
    <p:text/>
  </p:cm>
</p:cmLst>
</file>

<file path=ppt/comments/comment19.xml><?xml version="1.0" encoding="utf-8"?>
<p:cmLst xmlns:p="http://schemas.openxmlformats.org/presentationml/2006/main">
  <p:cm authorId="0" dt="2016-08-19T15:45:45.412000000" idx="2">
    <p:pos x="4602" y="205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65A3-5095-4245-A388-5703C4442C6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4654-E2AD-4DF6-82F6-3F17245ED68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C256-B16D-437D-85C8-155D2BF9CC6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492E-655E-4460-8B7D-F3DFF0B8FD8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<Relationship Id="rId8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表内乘法（一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384720" y="3357720"/>
            <a:ext cx="4679640" cy="14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916360" y="242100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   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乘法口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1"/>
          <p:cNvSpPr/>
          <p:nvPr/>
        </p:nvSpPr>
        <p:spPr>
          <a:xfrm>
            <a:off x="1279440" y="20034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写算式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140" name="g67.jpg" descr="id:2147502639;FounderCES"/>
          <p:cNvPicPr/>
          <p:nvPr/>
        </p:nvPicPr>
        <p:blipFill>
          <a:blip r:embed="rId3"/>
          <a:stretch/>
        </p:blipFill>
        <p:spPr>
          <a:xfrm>
            <a:off x="898560" y="2781360"/>
            <a:ext cx="7775640" cy="1822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36"/>
          <p:cNvSpPr/>
          <p:nvPr/>
        </p:nvSpPr>
        <p:spPr>
          <a:xfrm>
            <a:off x="1258920" y="256536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写乘法算式时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要先确定是不是求几个相同的加数的和。只有求几个相同的加数的和时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才可以根据乘法的意义写出乘法算式。如果加数不同，可以通过变形，变成加数相同才能写出乘法算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84360" y="4869000"/>
            <a:ext cx="1842840" cy="1431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9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971640" y="177336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9"/>
          <p:cNvSpPr/>
          <p:nvPr/>
        </p:nvSpPr>
        <p:spPr>
          <a:xfrm>
            <a:off x="3276720" y="340344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3×3=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9"/>
          <p:cNvSpPr/>
          <p:nvPr/>
        </p:nvSpPr>
        <p:spPr>
          <a:xfrm>
            <a:off x="2987640" y="335772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×(     )=3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pic>
        <p:nvPicPr>
          <p:cNvPr id="155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56" name="矩形 1"/>
          <p:cNvSpPr/>
          <p:nvPr/>
        </p:nvSpPr>
        <p:spPr>
          <a:xfrm rot="18297600">
            <a:off x="5881320" y="3475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1692360" y="177336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括号里填上合适的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15"/>
          <p:cNvSpPr/>
          <p:nvPr/>
        </p:nvSpPr>
        <p:spPr>
          <a:xfrm>
            <a:off x="3995640" y="3357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4385520" y="-137880"/>
            <a:ext cx="3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4385520" y="-137880"/>
            <a:ext cx="3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385520" y="-137880"/>
            <a:ext cx="3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NEU-BZ-S92"/>
                <a:ea typeface="方正书宋_GBK"/>
              </a:rPr>
              <a:t>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NEU-BZ-S9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10"/>
          <p:cNvSpPr/>
          <p:nvPr/>
        </p:nvSpPr>
        <p:spPr>
          <a:xfrm>
            <a:off x="755640" y="1773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8"/>
          <p:cNvSpPr/>
          <p:nvPr/>
        </p:nvSpPr>
        <p:spPr>
          <a:xfrm>
            <a:off x="1763640" y="2492280"/>
            <a:ext cx="64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计算时把乘数和积相乘了。算式中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其中的一个乘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正确填出另一个乘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要背出相应的乘法口诀“一三得三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可以知道括号里应该填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565164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76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15"/>
          <p:cNvSpPr/>
          <p:nvPr/>
        </p:nvSpPr>
        <p:spPr>
          <a:xfrm rot="18297600">
            <a:off x="5592600" y="4627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20"/>
          <p:cNvSpPr/>
          <p:nvPr/>
        </p:nvSpPr>
        <p:spPr>
          <a:xfrm rot="18297600">
            <a:off x="5952600" y="2467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81" name="TextBox 17"/>
          <p:cNvSpPr/>
          <p:nvPr/>
        </p:nvSpPr>
        <p:spPr>
          <a:xfrm>
            <a:off x="2916360" y="270828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×(     )=3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9"/>
          <p:cNvSpPr/>
          <p:nvPr/>
        </p:nvSpPr>
        <p:spPr>
          <a:xfrm>
            <a:off x="1692360" y="177336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括号里填上合适的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21"/>
          <p:cNvSpPr/>
          <p:nvPr/>
        </p:nvSpPr>
        <p:spPr>
          <a:xfrm>
            <a:off x="3924360" y="270828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28"/>
          <p:cNvSpPr/>
          <p:nvPr/>
        </p:nvSpPr>
        <p:spPr>
          <a:xfrm>
            <a:off x="2843280" y="458136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×(     )=3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29"/>
          <p:cNvSpPr/>
          <p:nvPr/>
        </p:nvSpPr>
        <p:spPr>
          <a:xfrm>
            <a:off x="3851280" y="4581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188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4572000" y="26370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×2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   ）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755640" y="256536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×2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  ）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3"/>
          <p:cNvSpPr/>
          <p:nvPr/>
        </p:nvSpPr>
        <p:spPr>
          <a:xfrm>
            <a:off x="684360" y="1700280"/>
            <a:ext cx="51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并写出口诀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6588000" y="263700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7"/>
          <p:cNvSpPr/>
          <p:nvPr/>
        </p:nvSpPr>
        <p:spPr>
          <a:xfrm>
            <a:off x="4525920" y="3294000"/>
            <a:ext cx="360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诀：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二得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8"/>
          <p:cNvSpPr/>
          <p:nvPr/>
        </p:nvSpPr>
        <p:spPr>
          <a:xfrm>
            <a:off x="611280" y="32846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诀：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三得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9"/>
          <p:cNvSpPr/>
          <p:nvPr/>
        </p:nvSpPr>
        <p:spPr>
          <a:xfrm>
            <a:off x="2627280" y="2565360"/>
            <a:ext cx="50472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684360" y="422100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×1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   ）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4427640" y="4292640"/>
            <a:ext cx="295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×3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   ）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9"/>
          <p:cNvSpPr/>
          <p:nvPr/>
        </p:nvSpPr>
        <p:spPr>
          <a:xfrm>
            <a:off x="2556000" y="4292640"/>
            <a:ext cx="79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8"/>
          <p:cNvSpPr/>
          <p:nvPr/>
        </p:nvSpPr>
        <p:spPr>
          <a:xfrm>
            <a:off x="611280" y="5084640"/>
            <a:ext cx="33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诀：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二得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6300720" y="43657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7"/>
          <p:cNvSpPr/>
          <p:nvPr/>
        </p:nvSpPr>
        <p:spPr>
          <a:xfrm>
            <a:off x="4356000" y="51577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诀：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三得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204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1116000" y="1628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写出两道乘法算式和所利用的口诀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想做2"/>
          <p:cNvPicPr/>
          <p:nvPr/>
        </p:nvPicPr>
        <p:blipFill>
          <a:blip r:embed="rId2"/>
          <a:stretch/>
        </p:blipFill>
        <p:spPr>
          <a:xfrm>
            <a:off x="5143680" y="3213000"/>
            <a:ext cx="3439800" cy="21592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6122880" y="3357720"/>
            <a:ext cx="12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2×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6122880" y="4076640"/>
            <a:ext cx="12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×2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6812280" y="4797360"/>
            <a:ext cx="103428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二三得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3"/>
          <a:stretch/>
        </p:blipFill>
        <p:spPr>
          <a:xfrm>
            <a:off x="1382760" y="3203640"/>
            <a:ext cx="3246480" cy="19936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755640" y="1773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猴摘桃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7991640" y="6568920"/>
            <a:ext cx="1152360" cy="288720"/>
            <a:chOff x="7991640" y="6568920"/>
            <a:chExt cx="1152360" cy="288720"/>
          </a:xfrm>
        </p:grpSpPr>
        <p:sp>
          <p:nvSpPr>
            <p:cNvPr id="217" name="AutoShape 4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8720"/>
            </a:xfrm>
            <a:prstGeom prst="rightArrow">
              <a:avLst>
                <a:gd name="adj1" fmla="val 50000"/>
                <a:gd name="adj2" fmla="val 43703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AutoShape 5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920"/>
              <a:ext cx="504720" cy="288720"/>
            </a:xfrm>
            <a:prstGeom prst="rightArrow">
              <a:avLst>
                <a:gd name="adj1" fmla="val 50000"/>
                <a:gd name="adj2" fmla="val 43703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9" name="Picture 6" descr="台湾卡通矢量图 - 植物篇 - Q版卡通树木18 - 卡通树木向量图18"/>
          <p:cNvPicPr/>
          <p:nvPr/>
        </p:nvPicPr>
        <p:blipFill>
          <a:blip r:embed="rId1"/>
          <a:stretch/>
        </p:blipFill>
        <p:spPr>
          <a:xfrm>
            <a:off x="7164360" y="765000"/>
            <a:ext cx="1811520" cy="2016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台湾卡通矢量图 - 植物篇 - 写实水果17 - 写实水果向量图17"/>
          <p:cNvPicPr/>
          <p:nvPr/>
        </p:nvPicPr>
        <p:blipFill>
          <a:blip r:embed="rId2"/>
          <a:stretch/>
        </p:blipFill>
        <p:spPr>
          <a:xfrm>
            <a:off x="7596360" y="836640"/>
            <a:ext cx="852480" cy="934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台湾卡通矢量图 - 植物篇 - 写实水果17 - 写实水果向量图17"/>
          <p:cNvPicPr/>
          <p:nvPr/>
        </p:nvPicPr>
        <p:blipFill>
          <a:blip r:embed="rId3"/>
          <a:stretch/>
        </p:blipFill>
        <p:spPr>
          <a:xfrm>
            <a:off x="7236000" y="1557360"/>
            <a:ext cx="852480" cy="934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台湾卡通矢量图 - 植物篇 - 写实水果17 - 写实水果向量图17"/>
          <p:cNvPicPr/>
          <p:nvPr/>
        </p:nvPicPr>
        <p:blipFill>
          <a:blip r:embed="rId4"/>
          <a:stretch/>
        </p:blipFill>
        <p:spPr>
          <a:xfrm>
            <a:off x="8028000" y="1557360"/>
            <a:ext cx="852480" cy="934920"/>
          </a:xfrm>
          <a:prstGeom prst="rect">
            <a:avLst/>
          </a:prstGeom>
          <a:ln w="0">
            <a:noFill/>
          </a:ln>
        </p:spPr>
      </p:pic>
      <p:sp>
        <p:nvSpPr>
          <p:cNvPr id="223" name="Freeform 10"/>
          <p:cNvSpPr/>
          <p:nvPr/>
        </p:nvSpPr>
        <p:spPr>
          <a:xfrm>
            <a:off x="179280" y="2708280"/>
            <a:ext cx="8785440" cy="3889440"/>
          </a:xfrm>
          <a:custGeom>
            <a:avLst/>
            <a:gdLst/>
            <a:ahLst/>
            <a:rect l="l" t="t" r="r" b="b"/>
            <a:pathLst>
              <a:path w="5534" h="2450">
                <a:moveTo>
                  <a:pt x="0" y="1815"/>
                </a:moveTo>
                <a:lnTo>
                  <a:pt x="998" y="1815"/>
                </a:lnTo>
                <a:lnTo>
                  <a:pt x="998" y="1452"/>
                </a:lnTo>
                <a:lnTo>
                  <a:pt x="1678" y="1452"/>
                </a:lnTo>
                <a:lnTo>
                  <a:pt x="1678" y="1089"/>
                </a:lnTo>
                <a:lnTo>
                  <a:pt x="2359" y="1089"/>
                </a:lnTo>
                <a:lnTo>
                  <a:pt x="2359" y="726"/>
                </a:lnTo>
                <a:lnTo>
                  <a:pt x="3039" y="726"/>
                </a:lnTo>
                <a:lnTo>
                  <a:pt x="3039" y="363"/>
                </a:lnTo>
                <a:lnTo>
                  <a:pt x="3720" y="363"/>
                </a:lnTo>
                <a:lnTo>
                  <a:pt x="3720" y="0"/>
                </a:lnTo>
                <a:lnTo>
                  <a:pt x="5534" y="0"/>
                </a:lnTo>
                <a:lnTo>
                  <a:pt x="5534" y="2450"/>
                </a:lnTo>
                <a:lnTo>
                  <a:pt x="0" y="2450"/>
                </a:lnTo>
                <a:lnTo>
                  <a:pt x="0" y="1815"/>
                </a:lnTo>
                <a:close/>
              </a:path>
            </a:pathLst>
          </a:custGeom>
          <a:solidFill>
            <a:srgbClr val="cc99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1765440" y="507060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3×2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12" descr="台湾矢量卡通图库 - 卡通十二生肖 - 猴年素材12 - 卡通生肖-猴年向量图12"/>
          <p:cNvPicPr/>
          <p:nvPr/>
        </p:nvPicPr>
        <p:blipFill>
          <a:blip r:embed="rId5"/>
          <a:stretch/>
        </p:blipFill>
        <p:spPr>
          <a:xfrm>
            <a:off x="179280" y="4076640"/>
            <a:ext cx="1343160" cy="15051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2844720" y="443700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×3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925800" y="386064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3×3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5005440" y="328464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3×1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6084720" y="278136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×1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2916360" y="50706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3997440" y="44226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5076720" y="386064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21"/>
          <p:cNvSpPr/>
          <p:nvPr/>
        </p:nvSpPr>
        <p:spPr>
          <a:xfrm>
            <a:off x="6156360" y="327024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22"/>
          <p:cNvSpPr/>
          <p:nvPr/>
        </p:nvSpPr>
        <p:spPr>
          <a:xfrm>
            <a:off x="7236000" y="276552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23" descr="台湾矢量卡通图库 - 卡通十二生肖 - 猴年素材12 - 卡通生肖-猴年向量图12"/>
          <p:cNvPicPr/>
          <p:nvPr/>
        </p:nvPicPr>
        <p:blipFill>
          <a:blip r:embed="rId6"/>
          <a:stretch/>
        </p:blipFill>
        <p:spPr>
          <a:xfrm>
            <a:off x="1476360" y="3579840"/>
            <a:ext cx="1343160" cy="1504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4" descr="台湾矢量卡通图库 - 卡通十二生肖 - 猴年素材12 - 卡通生肖-猴年向量图12"/>
          <p:cNvPicPr/>
          <p:nvPr/>
        </p:nvPicPr>
        <p:blipFill>
          <a:blip r:embed="rId7"/>
          <a:stretch/>
        </p:blipFill>
        <p:spPr>
          <a:xfrm>
            <a:off x="2627280" y="2997360"/>
            <a:ext cx="1343160" cy="15048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5" descr="台湾矢量卡通图库 - 卡通十二生肖 - 猴年素材12 - 卡通生肖-猴年向量图12"/>
          <p:cNvPicPr/>
          <p:nvPr/>
        </p:nvPicPr>
        <p:blipFill>
          <a:blip r:embed="rId8"/>
          <a:stretch/>
        </p:blipFill>
        <p:spPr>
          <a:xfrm>
            <a:off x="3635280" y="2349360"/>
            <a:ext cx="1343160" cy="1505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6" descr="台湾矢量卡通图库 - 卡通十二生肖 - 猴年素材12 - 卡通生肖-猴年向量图12"/>
          <p:cNvPicPr/>
          <p:nvPr/>
        </p:nvPicPr>
        <p:blipFill>
          <a:blip r:embed="rId9"/>
          <a:stretch/>
        </p:blipFill>
        <p:spPr>
          <a:xfrm>
            <a:off x="4716360" y="1844640"/>
            <a:ext cx="1343160" cy="15051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27"/>
          <p:cNvSpPr/>
          <p:nvPr/>
        </p:nvSpPr>
        <p:spPr>
          <a:xfrm>
            <a:off x="254160" y="557388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×2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28"/>
          <p:cNvSpPr/>
          <p:nvPr/>
        </p:nvSpPr>
        <p:spPr>
          <a:xfrm>
            <a:off x="1405080" y="557388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0.00047 C 0.01614 0.00162 0.03263 0.00278 0.05069 -0.0104 C 0.06875 -0.02335 0.0934 -0.06728 0.10816 -0.07792 C 0.12291 -0.08855 0.13107 -0.08162 0.13923 -0.07445 E">
                                      <p:cBhvr>
                                        <p:cTn id="455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0.00047 C 0.01614 0.00162 0.03263 0.00278 0.05069 -0.0104 C 0.06875 -0.02335 0.0934 -0.06728 0.10816 -0.07792 C 0.12291 -0.08855 0.13107 -0.08162 0.13923 -0.07445 E">
                                      <p:cBhvr>
                                        <p:cTn id="473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0.00047 C 0.01614 0.00162 0.03263 0.00278 0.05069 -0.0104 C 0.06875 -0.02335 0.0934 -0.06728 0.10816 -0.07792 C 0.12291 -0.08855 0.13107 -0.08162 0.13923 -0.07445 E">
                                      <p:cBhvr>
                                        <p:cTn id="491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0.00047 C 0.01614 0.00162 0.03263 0.00278 0.05069 -0.0104 C 0.06875 -0.02335 0.0934 -0.06728 0.10816 -0.07792 C 0.12291 -0.08855 0.13107 -0.08162 0.13923 -0.07445 E">
                                      <p:cBhvr>
                                        <p:cTn id="509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01 -0.00093 C 0.03507 0.00046 0.04965 0.00231 0.0658 -0.01434 C 0.08177 -0.03052 0.10347 -0.08439 0.11684 -0.09757 C 0.12986 -0.11029 0.13715 -0.1022 0.14444 -0.09318 E">
                                      <p:cBhvr>
                                        <p:cTn id="527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4716360" y="76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4.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回家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4" name="Group 49"/>
          <p:cNvGrpSpPr/>
          <p:nvPr/>
        </p:nvGrpSpPr>
        <p:grpSpPr>
          <a:xfrm>
            <a:off x="5508720" y="1338120"/>
            <a:ext cx="3166560" cy="5186520"/>
            <a:chOff x="5508720" y="1338120"/>
            <a:chExt cx="3166560" cy="5186520"/>
          </a:xfrm>
        </p:grpSpPr>
        <p:sp>
          <p:nvSpPr>
            <p:cNvPr id="245" name="Rectangle 4"/>
            <p:cNvSpPr/>
            <p:nvPr/>
          </p:nvSpPr>
          <p:spPr>
            <a:xfrm>
              <a:off x="6227640" y="1409760"/>
              <a:ext cx="2015640" cy="46800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Rectangle 5"/>
            <p:cNvSpPr/>
            <p:nvPr/>
          </p:nvSpPr>
          <p:spPr>
            <a:xfrm>
              <a:off x="5938560" y="1338120"/>
              <a:ext cx="2520720" cy="14292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Rectangle 6"/>
            <p:cNvSpPr/>
            <p:nvPr/>
          </p:nvSpPr>
          <p:spPr>
            <a:xfrm>
              <a:off x="6011640" y="1770120"/>
              <a:ext cx="502920" cy="36036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>
              <a:off x="6011640" y="2489400"/>
              <a:ext cx="502920" cy="36036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Rectangle 8"/>
            <p:cNvSpPr/>
            <p:nvPr/>
          </p:nvSpPr>
          <p:spPr>
            <a:xfrm>
              <a:off x="6011640" y="3137040"/>
              <a:ext cx="502920" cy="36036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Rectangle 9"/>
            <p:cNvSpPr/>
            <p:nvPr/>
          </p:nvSpPr>
          <p:spPr>
            <a:xfrm>
              <a:off x="6011640" y="3857760"/>
              <a:ext cx="502920" cy="36036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Rectangle 10"/>
            <p:cNvSpPr/>
            <p:nvPr/>
          </p:nvSpPr>
          <p:spPr>
            <a:xfrm>
              <a:off x="6011640" y="4576680"/>
              <a:ext cx="502920" cy="36036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Rectangle 11"/>
            <p:cNvSpPr/>
            <p:nvPr/>
          </p:nvSpPr>
          <p:spPr>
            <a:xfrm>
              <a:off x="6011640" y="5226120"/>
              <a:ext cx="502920" cy="36036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3" name="Group 25"/>
            <p:cNvGrpSpPr/>
            <p:nvPr/>
          </p:nvGrpSpPr>
          <p:grpSpPr>
            <a:xfrm>
              <a:off x="5508720" y="5513400"/>
              <a:ext cx="3166560" cy="1011240"/>
              <a:chOff x="5508720" y="5513400"/>
              <a:chExt cx="3166560" cy="1011240"/>
            </a:xfrm>
          </p:grpSpPr>
          <p:sp>
            <p:nvSpPr>
              <p:cNvPr id="254" name="Freeform 24"/>
              <p:cNvSpPr/>
              <p:nvPr/>
            </p:nvSpPr>
            <p:spPr>
              <a:xfrm>
                <a:off x="5651280" y="5513400"/>
                <a:ext cx="2933280" cy="1011240"/>
              </a:xfrm>
              <a:custGeom>
                <a:avLst/>
                <a:gdLst/>
                <a:ahLst/>
                <a:rect l="l" t="t" r="r" b="b"/>
                <a:pathLst>
                  <a:path w="1848" h="637">
                    <a:moveTo>
                      <a:pt x="95" y="576"/>
                    </a:moveTo>
                    <a:cubicBezTo>
                      <a:pt x="44" y="564"/>
                      <a:pt x="29" y="559"/>
                      <a:pt x="0" y="511"/>
                    </a:cubicBezTo>
                    <a:cubicBezTo>
                      <a:pt x="3" y="496"/>
                      <a:pt x="2" y="479"/>
                      <a:pt x="10" y="467"/>
                    </a:cubicBezTo>
                    <a:cubicBezTo>
                      <a:pt x="16" y="458"/>
                      <a:pt x="28" y="459"/>
                      <a:pt x="38" y="457"/>
                    </a:cubicBezTo>
                    <a:cubicBezTo>
                      <a:pt x="73" y="448"/>
                      <a:pt x="125" y="441"/>
                      <a:pt x="160" y="435"/>
                    </a:cubicBezTo>
                    <a:cubicBezTo>
                      <a:pt x="126" y="378"/>
                      <a:pt x="78" y="333"/>
                      <a:pt x="29" y="294"/>
                    </a:cubicBezTo>
                    <a:cubicBezTo>
                      <a:pt x="0" y="201"/>
                      <a:pt x="116" y="247"/>
                      <a:pt x="160" y="250"/>
                    </a:cubicBezTo>
                    <a:cubicBezTo>
                      <a:pt x="163" y="240"/>
                      <a:pt x="171" y="230"/>
                      <a:pt x="169" y="218"/>
                    </a:cubicBezTo>
                    <a:cubicBezTo>
                      <a:pt x="167" y="206"/>
                      <a:pt x="155" y="197"/>
                      <a:pt x="150" y="186"/>
                    </a:cubicBezTo>
                    <a:cubicBezTo>
                      <a:pt x="141" y="165"/>
                      <a:pt x="138" y="142"/>
                      <a:pt x="131" y="121"/>
                    </a:cubicBezTo>
                    <a:cubicBezTo>
                      <a:pt x="134" y="106"/>
                      <a:pt x="129" y="83"/>
                      <a:pt x="141" y="77"/>
                    </a:cubicBezTo>
                    <a:cubicBezTo>
                      <a:pt x="152" y="72"/>
                      <a:pt x="225" y="93"/>
                      <a:pt x="245" y="99"/>
                    </a:cubicBezTo>
                    <a:cubicBezTo>
                      <a:pt x="269" y="299"/>
                      <a:pt x="235" y="56"/>
                      <a:pt x="264" y="34"/>
                    </a:cubicBezTo>
                    <a:cubicBezTo>
                      <a:pt x="308" y="0"/>
                      <a:pt x="325" y="154"/>
                      <a:pt x="378" y="158"/>
                    </a:cubicBezTo>
                    <a:cubicBezTo>
                      <a:pt x="381" y="168"/>
                      <a:pt x="432" y="65"/>
                      <a:pt x="433" y="77"/>
                    </a:cubicBezTo>
                    <a:cubicBezTo>
                      <a:pt x="438" y="116"/>
                      <a:pt x="434" y="157"/>
                      <a:pt x="442" y="196"/>
                    </a:cubicBezTo>
                    <a:cubicBezTo>
                      <a:pt x="444" y="208"/>
                      <a:pt x="446" y="173"/>
                      <a:pt x="452" y="164"/>
                    </a:cubicBezTo>
                    <a:cubicBezTo>
                      <a:pt x="466" y="141"/>
                      <a:pt x="474" y="214"/>
                      <a:pt x="492" y="196"/>
                    </a:cubicBezTo>
                    <a:cubicBezTo>
                      <a:pt x="508" y="179"/>
                      <a:pt x="554" y="55"/>
                      <a:pt x="554" y="55"/>
                    </a:cubicBezTo>
                    <a:cubicBezTo>
                      <a:pt x="608" y="68"/>
                      <a:pt x="619" y="80"/>
                      <a:pt x="649" y="132"/>
                    </a:cubicBezTo>
                    <a:cubicBezTo>
                      <a:pt x="652" y="183"/>
                      <a:pt x="644" y="235"/>
                      <a:pt x="658" y="284"/>
                    </a:cubicBezTo>
                    <a:cubicBezTo>
                      <a:pt x="662" y="296"/>
                      <a:pt x="679" y="271"/>
                      <a:pt x="687" y="262"/>
                    </a:cubicBezTo>
                    <a:cubicBezTo>
                      <a:pt x="715" y="230"/>
                      <a:pt x="721" y="212"/>
                      <a:pt x="761" y="196"/>
                    </a:cubicBezTo>
                    <a:cubicBezTo>
                      <a:pt x="777" y="185"/>
                      <a:pt x="781" y="81"/>
                      <a:pt x="794" y="83"/>
                    </a:cubicBezTo>
                    <a:cubicBezTo>
                      <a:pt x="806" y="77"/>
                      <a:pt x="831" y="125"/>
                      <a:pt x="832" y="158"/>
                    </a:cubicBezTo>
                    <a:cubicBezTo>
                      <a:pt x="864" y="190"/>
                      <a:pt x="809" y="276"/>
                      <a:pt x="799" y="284"/>
                    </a:cubicBezTo>
                    <a:cubicBezTo>
                      <a:pt x="796" y="294"/>
                      <a:pt x="784" y="305"/>
                      <a:pt x="789" y="316"/>
                    </a:cubicBezTo>
                    <a:cubicBezTo>
                      <a:pt x="794" y="326"/>
                      <a:pt x="808" y="326"/>
                      <a:pt x="818" y="326"/>
                    </a:cubicBezTo>
                    <a:cubicBezTo>
                      <a:pt x="846" y="326"/>
                      <a:pt x="875" y="319"/>
                      <a:pt x="903" y="316"/>
                    </a:cubicBezTo>
                    <a:cubicBezTo>
                      <a:pt x="969" y="270"/>
                      <a:pt x="1016" y="204"/>
                      <a:pt x="1091" y="175"/>
                    </a:cubicBezTo>
                    <a:cubicBezTo>
                      <a:pt x="1123" y="146"/>
                      <a:pt x="1138" y="232"/>
                      <a:pt x="1172" y="205"/>
                    </a:cubicBezTo>
                    <a:cubicBezTo>
                      <a:pt x="1187" y="277"/>
                      <a:pt x="1173" y="241"/>
                      <a:pt x="1203" y="305"/>
                    </a:cubicBezTo>
                    <a:cubicBezTo>
                      <a:pt x="1214" y="328"/>
                      <a:pt x="1247" y="297"/>
                      <a:pt x="1269" y="294"/>
                    </a:cubicBezTo>
                    <a:cubicBezTo>
                      <a:pt x="1316" y="254"/>
                      <a:pt x="1361" y="211"/>
                      <a:pt x="1410" y="175"/>
                    </a:cubicBezTo>
                    <a:cubicBezTo>
                      <a:pt x="1420" y="211"/>
                      <a:pt x="1430" y="246"/>
                      <a:pt x="1438" y="284"/>
                    </a:cubicBezTo>
                    <a:cubicBezTo>
                      <a:pt x="1475" y="262"/>
                      <a:pt x="1498" y="234"/>
                      <a:pt x="1532" y="208"/>
                    </a:cubicBezTo>
                    <a:cubicBezTo>
                      <a:pt x="1559" y="211"/>
                      <a:pt x="1596" y="195"/>
                      <a:pt x="1616" y="218"/>
                    </a:cubicBezTo>
                    <a:cubicBezTo>
                      <a:pt x="1632" y="237"/>
                      <a:pt x="1619" y="273"/>
                      <a:pt x="1607" y="294"/>
                    </a:cubicBezTo>
                    <a:cubicBezTo>
                      <a:pt x="1592" y="320"/>
                      <a:pt x="1563" y="330"/>
                      <a:pt x="1541" y="348"/>
                    </a:cubicBezTo>
                    <a:cubicBezTo>
                      <a:pt x="1531" y="357"/>
                      <a:pt x="1525" y="373"/>
                      <a:pt x="1514" y="381"/>
                    </a:cubicBezTo>
                    <a:cubicBezTo>
                      <a:pt x="1506" y="388"/>
                      <a:pt x="1475" y="392"/>
                      <a:pt x="1485" y="392"/>
                    </a:cubicBezTo>
                    <a:cubicBezTo>
                      <a:pt x="1572" y="387"/>
                      <a:pt x="1642" y="250"/>
                      <a:pt x="1729" y="243"/>
                    </a:cubicBezTo>
                    <a:cubicBezTo>
                      <a:pt x="1738" y="240"/>
                      <a:pt x="1814" y="344"/>
                      <a:pt x="1823" y="370"/>
                    </a:cubicBezTo>
                    <a:cubicBezTo>
                      <a:pt x="1848" y="443"/>
                      <a:pt x="1785" y="494"/>
                      <a:pt x="1739" y="511"/>
                    </a:cubicBezTo>
                    <a:cubicBezTo>
                      <a:pt x="1670" y="565"/>
                      <a:pt x="1271" y="568"/>
                      <a:pt x="1199" y="637"/>
                    </a:cubicBezTo>
                    <a:cubicBezTo>
                      <a:pt x="651" y="571"/>
                      <a:pt x="624" y="580"/>
                      <a:pt x="95" y="576"/>
                    </a:cubicBezTo>
                    <a:close/>
                  </a:path>
                </a:pathLst>
              </a:custGeom>
              <a:solidFill>
                <a:srgbClr val="00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Rectangle 12"/>
              <p:cNvSpPr/>
              <p:nvPr/>
            </p:nvSpPr>
            <p:spPr>
              <a:xfrm>
                <a:off x="6373800" y="6378480"/>
                <a:ext cx="286920" cy="14436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Rectangle 13"/>
              <p:cNvSpPr/>
              <p:nvPr/>
            </p:nvSpPr>
            <p:spPr>
              <a:xfrm>
                <a:off x="6661080" y="6378480"/>
                <a:ext cx="286920" cy="14436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Rectangle 14"/>
              <p:cNvSpPr/>
              <p:nvPr/>
            </p:nvSpPr>
            <p:spPr>
              <a:xfrm>
                <a:off x="6949800" y="6378480"/>
                <a:ext cx="286920" cy="14436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Rectangle 15"/>
              <p:cNvSpPr/>
              <p:nvPr/>
            </p:nvSpPr>
            <p:spPr>
              <a:xfrm>
                <a:off x="7237080" y="6378480"/>
                <a:ext cx="287280" cy="14436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Rectangle 16"/>
              <p:cNvSpPr/>
              <p:nvPr/>
            </p:nvSpPr>
            <p:spPr>
              <a:xfrm>
                <a:off x="7524720" y="6378480"/>
                <a:ext cx="286920" cy="14436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Rectangle 17"/>
              <p:cNvSpPr/>
              <p:nvPr/>
            </p:nvSpPr>
            <p:spPr>
              <a:xfrm>
                <a:off x="7812000" y="6378480"/>
                <a:ext cx="286920" cy="14436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Rectangle 18"/>
              <p:cNvSpPr/>
              <p:nvPr/>
            </p:nvSpPr>
            <p:spPr>
              <a:xfrm>
                <a:off x="8100720" y="6378480"/>
                <a:ext cx="287280" cy="14436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Rectangle 19"/>
              <p:cNvSpPr/>
              <p:nvPr/>
            </p:nvSpPr>
            <p:spPr>
              <a:xfrm>
                <a:off x="8388360" y="6378480"/>
                <a:ext cx="286920" cy="14436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Rectangle 20"/>
              <p:cNvSpPr/>
              <p:nvPr/>
            </p:nvSpPr>
            <p:spPr>
              <a:xfrm>
                <a:off x="5508720" y="6378480"/>
                <a:ext cx="286920" cy="14436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Rectangle 21"/>
              <p:cNvSpPr/>
              <p:nvPr/>
            </p:nvSpPr>
            <p:spPr>
              <a:xfrm>
                <a:off x="5795640" y="6378480"/>
                <a:ext cx="287280" cy="14436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Rectangle 22"/>
              <p:cNvSpPr/>
              <p:nvPr/>
            </p:nvSpPr>
            <p:spPr>
              <a:xfrm>
                <a:off x="6084720" y="6378480"/>
                <a:ext cx="286920" cy="144360"/>
              </a:xfrm>
              <a:prstGeom prst="rect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66" name="Text Box 27"/>
          <p:cNvSpPr/>
          <p:nvPr/>
        </p:nvSpPr>
        <p:spPr>
          <a:xfrm>
            <a:off x="6299280" y="1628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×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Group 77"/>
          <p:cNvGrpSpPr/>
          <p:nvPr/>
        </p:nvGrpSpPr>
        <p:grpSpPr>
          <a:xfrm>
            <a:off x="106200" y="4292640"/>
            <a:ext cx="1257480" cy="1873080"/>
            <a:chOff x="106200" y="4292640"/>
            <a:chExt cx="1257480" cy="1873080"/>
          </a:xfrm>
        </p:grpSpPr>
        <p:pic>
          <p:nvPicPr>
            <p:cNvPr id="268" name="Picture 54" descr="台湾矢量卡通图库 - 趣味动物篇 - 卡通猴子图片5 - 卡通猴子向量图5"/>
            <p:cNvPicPr/>
            <p:nvPr/>
          </p:nvPicPr>
          <p:blipFill>
            <a:blip r:embed="rId1"/>
            <a:stretch/>
          </p:blipFill>
          <p:spPr>
            <a:xfrm>
              <a:off x="106200" y="4292640"/>
              <a:ext cx="1257480" cy="15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Rectangle 65"/>
            <p:cNvSpPr/>
            <p:nvPr/>
          </p:nvSpPr>
          <p:spPr>
            <a:xfrm>
              <a:off x="395280" y="5373720"/>
              <a:ext cx="792000" cy="792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Text Box 66"/>
          <p:cNvSpPr/>
          <p:nvPr/>
        </p:nvSpPr>
        <p:spPr>
          <a:xfrm>
            <a:off x="6299280" y="2349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×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 Box 67"/>
          <p:cNvSpPr/>
          <p:nvPr/>
        </p:nvSpPr>
        <p:spPr>
          <a:xfrm>
            <a:off x="6299280" y="2997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×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 Box 68"/>
          <p:cNvSpPr/>
          <p:nvPr/>
        </p:nvSpPr>
        <p:spPr>
          <a:xfrm>
            <a:off x="6299280" y="37162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×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Box 69"/>
          <p:cNvSpPr/>
          <p:nvPr/>
        </p:nvSpPr>
        <p:spPr>
          <a:xfrm>
            <a:off x="6299280" y="4437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×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70"/>
          <p:cNvSpPr/>
          <p:nvPr/>
        </p:nvSpPr>
        <p:spPr>
          <a:xfrm>
            <a:off x="6299280" y="5084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×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5" name="Group 78"/>
          <p:cNvGrpSpPr/>
          <p:nvPr/>
        </p:nvGrpSpPr>
        <p:grpSpPr>
          <a:xfrm>
            <a:off x="3635280" y="1052640"/>
            <a:ext cx="1428840" cy="1512360"/>
            <a:chOff x="3635280" y="1052640"/>
            <a:chExt cx="1428840" cy="1512360"/>
          </a:xfrm>
        </p:grpSpPr>
        <p:pic>
          <p:nvPicPr>
            <p:cNvPr id="276" name="Picture 58" descr="台湾矢量卡通图库 - 趣味动物篇 - 卡通企鹅图片3 - 卡通企鹅向量图3"/>
            <p:cNvPicPr/>
            <p:nvPr/>
          </p:nvPicPr>
          <p:blipFill>
            <a:blip r:embed="rId2"/>
            <a:stretch/>
          </p:blipFill>
          <p:spPr>
            <a:xfrm>
              <a:off x="3635280" y="1052640"/>
              <a:ext cx="1428840" cy="15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Rectangle 71"/>
            <p:cNvSpPr/>
            <p:nvPr/>
          </p:nvSpPr>
          <p:spPr>
            <a:xfrm>
              <a:off x="3922560" y="1773000"/>
              <a:ext cx="792360" cy="7920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8" name="Group 79"/>
          <p:cNvGrpSpPr/>
          <p:nvPr/>
        </p:nvGrpSpPr>
        <p:grpSpPr>
          <a:xfrm>
            <a:off x="2411280" y="2565360"/>
            <a:ext cx="1381320" cy="1513080"/>
            <a:chOff x="2411280" y="2565360"/>
            <a:chExt cx="1381320" cy="1513080"/>
          </a:xfrm>
        </p:grpSpPr>
        <p:pic>
          <p:nvPicPr>
            <p:cNvPr id="279" name="Picture 52" descr="台湾矢量卡通图库 - 趣味动物篇 - 卡通马图片8 - 卡通马向量图8"/>
            <p:cNvPicPr/>
            <p:nvPr/>
          </p:nvPicPr>
          <p:blipFill>
            <a:blip r:embed="rId3"/>
            <a:stretch/>
          </p:blipFill>
          <p:spPr>
            <a:xfrm>
              <a:off x="2411280" y="2565360"/>
              <a:ext cx="138132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Rectangle 72"/>
            <p:cNvSpPr/>
            <p:nvPr/>
          </p:nvSpPr>
          <p:spPr>
            <a:xfrm>
              <a:off x="2627280" y="3286080"/>
              <a:ext cx="792360" cy="7923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" name="Group 76"/>
          <p:cNvGrpSpPr/>
          <p:nvPr/>
        </p:nvGrpSpPr>
        <p:grpSpPr>
          <a:xfrm>
            <a:off x="538200" y="1916280"/>
            <a:ext cx="1314360" cy="1657080"/>
            <a:chOff x="538200" y="1916280"/>
            <a:chExt cx="1314360" cy="1657080"/>
          </a:xfrm>
        </p:grpSpPr>
        <p:pic>
          <p:nvPicPr>
            <p:cNvPr id="282" name="Picture 60" descr="台湾矢量卡通图库 - 趣味动物篇 - 卡通猪图片15 - 卡通猪向量图15"/>
            <p:cNvPicPr/>
            <p:nvPr/>
          </p:nvPicPr>
          <p:blipFill>
            <a:blip r:embed="rId4"/>
            <a:stretch/>
          </p:blipFill>
          <p:spPr>
            <a:xfrm>
              <a:off x="538200" y="1916280"/>
              <a:ext cx="1314360" cy="15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Rectangle 73"/>
            <p:cNvSpPr/>
            <p:nvPr/>
          </p:nvSpPr>
          <p:spPr>
            <a:xfrm>
              <a:off x="753840" y="2781360"/>
              <a:ext cx="792360" cy="7920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4" name="Group 81"/>
          <p:cNvGrpSpPr/>
          <p:nvPr/>
        </p:nvGrpSpPr>
        <p:grpSpPr>
          <a:xfrm>
            <a:off x="4282920" y="3933720"/>
            <a:ext cx="1095120" cy="1800360"/>
            <a:chOff x="4282920" y="3933720"/>
            <a:chExt cx="1095120" cy="1800360"/>
          </a:xfrm>
        </p:grpSpPr>
        <p:pic>
          <p:nvPicPr>
            <p:cNvPr id="285" name="Picture 56" descr="台湾矢量卡通图库 - 趣味动物篇 - 卡通牛图片14 - 卡通牛向量图14"/>
            <p:cNvPicPr/>
            <p:nvPr/>
          </p:nvPicPr>
          <p:blipFill>
            <a:blip r:embed="rId5"/>
            <a:stretch/>
          </p:blipFill>
          <p:spPr>
            <a:xfrm>
              <a:off x="4282920" y="3933720"/>
              <a:ext cx="109512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Rectangle 74"/>
            <p:cNvSpPr/>
            <p:nvPr/>
          </p:nvSpPr>
          <p:spPr>
            <a:xfrm>
              <a:off x="4498560" y="4941720"/>
              <a:ext cx="792360" cy="79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7" name="Group 80"/>
          <p:cNvGrpSpPr/>
          <p:nvPr/>
        </p:nvGrpSpPr>
        <p:grpSpPr>
          <a:xfrm>
            <a:off x="2411280" y="4581360"/>
            <a:ext cx="1047600" cy="1800360"/>
            <a:chOff x="2411280" y="4581360"/>
            <a:chExt cx="1047600" cy="1800360"/>
          </a:xfrm>
        </p:grpSpPr>
        <p:pic>
          <p:nvPicPr>
            <p:cNvPr id="288" name="Picture 62" descr="台湾矢量卡通图库 - 趣味动物篇 - 卡通兔子图片3 - 卡通兔子向量图3"/>
            <p:cNvPicPr/>
            <p:nvPr/>
          </p:nvPicPr>
          <p:blipFill>
            <a:blip r:embed="rId6"/>
            <a:stretch/>
          </p:blipFill>
          <p:spPr>
            <a:xfrm>
              <a:off x="2411280" y="4581360"/>
              <a:ext cx="104760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Rectangle 75"/>
            <p:cNvSpPr/>
            <p:nvPr/>
          </p:nvSpPr>
          <p:spPr>
            <a:xfrm>
              <a:off x="2626920" y="5589720"/>
              <a:ext cx="792360" cy="7920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Line 83"/>
          <p:cNvSpPr/>
          <p:nvPr/>
        </p:nvSpPr>
        <p:spPr>
          <a:xfrm>
            <a:off x="4714920" y="2349360"/>
            <a:ext cx="1439640" cy="287640"/>
          </a:xfrm>
          <a:prstGeom prst="line">
            <a:avLst/>
          </a:prstGeom>
          <a:ln w="38160">
            <a:solidFill>
              <a:srgbClr val="cc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Line 84"/>
          <p:cNvSpPr/>
          <p:nvPr/>
        </p:nvSpPr>
        <p:spPr>
          <a:xfrm flipV="1">
            <a:off x="3346560" y="3284280"/>
            <a:ext cx="2808000" cy="3618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Line 85"/>
          <p:cNvSpPr/>
          <p:nvPr/>
        </p:nvSpPr>
        <p:spPr>
          <a:xfrm flipV="1">
            <a:off x="1114560" y="2060640"/>
            <a:ext cx="4968720" cy="34574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Line 86"/>
          <p:cNvSpPr/>
          <p:nvPr/>
        </p:nvSpPr>
        <p:spPr>
          <a:xfrm flipV="1">
            <a:off x="5075280" y="4149720"/>
            <a:ext cx="1008000" cy="936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Line 87"/>
          <p:cNvSpPr/>
          <p:nvPr/>
        </p:nvSpPr>
        <p:spPr>
          <a:xfrm>
            <a:off x="1403280" y="3357720"/>
            <a:ext cx="4751280" cy="2016000"/>
          </a:xfrm>
          <a:prstGeom prst="line">
            <a:avLst/>
          </a:prstGeom>
          <a:ln w="3816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Line 88"/>
          <p:cNvSpPr/>
          <p:nvPr/>
        </p:nvSpPr>
        <p:spPr>
          <a:xfrm flipV="1">
            <a:off x="3274920" y="4797360"/>
            <a:ext cx="2879640" cy="10080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724280"/>
            <a:ext cx="2016000" cy="148428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971640" y="256536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乘法口诀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能运用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诀计算有关的乘法算式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1"/>
          <p:cNvSpPr/>
          <p:nvPr/>
        </p:nvSpPr>
        <p:spPr>
          <a:xfrm>
            <a:off x="1042920" y="177336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理解乘法口诀的含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971640" y="4076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运用所学知识解决生活中的一些实际问题。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01200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298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直线连接符 21"/>
          <p:cNvSpPr/>
          <p:nvPr/>
        </p:nvSpPr>
        <p:spPr>
          <a:xfrm flipV="1">
            <a:off x="468360" y="155700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3299040" y="472428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×3=9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个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116000" y="162864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样的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盘有几个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4683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303" name="苹果3.eps" descr="id:2147502318;FounderCES"/>
          <p:cNvPicPr/>
          <p:nvPr/>
        </p:nvPicPr>
        <p:blipFill>
          <a:blip r:embed="rId3"/>
          <a:stretch/>
        </p:blipFill>
        <p:spPr>
          <a:xfrm>
            <a:off x="2631960" y="2852640"/>
            <a:ext cx="3463920" cy="13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Group 24"/>
          <p:cNvGrpSpPr/>
          <p:nvPr/>
        </p:nvGrpSpPr>
        <p:grpSpPr>
          <a:xfrm>
            <a:off x="611280" y="1773360"/>
            <a:ext cx="2519280" cy="966240"/>
            <a:chOff x="611280" y="1773360"/>
            <a:chExt cx="2519280" cy="966240"/>
          </a:xfrm>
        </p:grpSpPr>
        <p:sp>
          <p:nvSpPr>
            <p:cNvPr id="307" name="AutoShape 27"/>
            <p:cNvSpPr/>
            <p:nvPr/>
          </p:nvSpPr>
          <p:spPr>
            <a:xfrm>
              <a:off x="611280" y="1789200"/>
              <a:ext cx="2447640" cy="95040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Rectangle 13"/>
            <p:cNvSpPr/>
            <p:nvPr/>
          </p:nvSpPr>
          <p:spPr>
            <a:xfrm>
              <a:off x="611280" y="177336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9" name="Group 21"/>
          <p:cNvGrpSpPr/>
          <p:nvPr/>
        </p:nvGrpSpPr>
        <p:grpSpPr>
          <a:xfrm>
            <a:off x="6012000" y="1413000"/>
            <a:ext cx="2627280" cy="1368360"/>
            <a:chOff x="6012000" y="1413000"/>
            <a:chExt cx="2627280" cy="1368360"/>
          </a:xfrm>
        </p:grpSpPr>
        <p:sp>
          <p:nvSpPr>
            <p:cNvPr id="310" name="AutoShape 27"/>
            <p:cNvSpPr/>
            <p:nvPr/>
          </p:nvSpPr>
          <p:spPr>
            <a:xfrm>
              <a:off x="6012000" y="1413000"/>
              <a:ext cx="2627280" cy="1368360"/>
            </a:xfrm>
            <a:prstGeom prst="wedgeRoundRectCallout">
              <a:avLst>
                <a:gd name="adj1" fmla="val -70347"/>
                <a:gd name="adj2" fmla="val -7402"/>
                <a:gd name="adj3" fmla="val 16667"/>
              </a:avLst>
            </a:prstGeom>
            <a:solidFill>
              <a:srgbClr val="8eb4e3">
                <a:alpha val="22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Rectangle 17"/>
            <p:cNvSpPr/>
            <p:nvPr/>
          </p:nvSpPr>
          <p:spPr>
            <a:xfrm>
              <a:off x="6012000" y="1628640"/>
              <a:ext cx="2593080" cy="520560"/>
            </a:xfrm>
            <a:prstGeom prst="rect">
              <a:avLst/>
            </a:prstGeom>
            <a:solidFill>
              <a:srgbClr val="6dff44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几的口诀就有几句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313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矩形 21"/>
          <p:cNvSpPr/>
          <p:nvPr/>
        </p:nvSpPr>
        <p:spPr>
          <a:xfrm>
            <a:off x="826920" y="3213000"/>
            <a:ext cx="7535880" cy="6426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乘法口诀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二得二　二二得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矩形 15"/>
          <p:cNvSpPr/>
          <p:nvPr/>
        </p:nvSpPr>
        <p:spPr>
          <a:xfrm>
            <a:off x="817560" y="4184640"/>
            <a:ext cx="7545240" cy="642600"/>
          </a:xfrm>
          <a:prstGeom prst="rect">
            <a:avLst/>
          </a:prstGeom>
          <a:solidFill>
            <a:srgbClr val="558ed5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的乘法口诀</a:t>
            </a: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一三得三　二三得六　三三得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矩形 18"/>
          <p:cNvSpPr/>
          <p:nvPr/>
        </p:nvSpPr>
        <p:spPr>
          <a:xfrm>
            <a:off x="851040" y="5661000"/>
            <a:ext cx="7488000" cy="642600"/>
          </a:xfrm>
          <a:prstGeom prst="rect">
            <a:avLst/>
          </a:prstGeom>
          <a:solidFill>
            <a:srgbClr val="e46c0a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乘法口诀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一得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1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6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216.eps" descr="id:2147501948;FounderCES"/>
          <p:cNvPicPr/>
          <p:nvPr/>
        </p:nvPicPr>
        <p:blipFill>
          <a:blip r:embed="rId1"/>
          <a:stretch/>
        </p:blipFill>
        <p:spPr>
          <a:xfrm>
            <a:off x="2195640" y="2703600"/>
            <a:ext cx="4470120" cy="2341440"/>
          </a:xfrm>
          <a:prstGeom prst="rect">
            <a:avLst/>
          </a:prstGeom>
          <a:ln w="0">
            <a:noFill/>
          </a:ln>
        </p:spPr>
      </p:pic>
      <p:sp>
        <p:nvSpPr>
          <p:cNvPr id="58" name="同侧圆角矩形 6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5651640" y="907920"/>
            <a:ext cx="3492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4813200" y="4503600"/>
            <a:ext cx="57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3133800" y="5438880"/>
            <a:ext cx="307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算式（           ）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3672000" y="4491000"/>
            <a:ext cx="74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4381560" y="5451480"/>
            <a:ext cx="1436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Arial"/>
              </a:rPr>
              <a:t>4×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755640" y="1844640"/>
            <a:ext cx="47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填空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826920" y="2825640"/>
            <a:ext cx="7554960" cy="2772000"/>
          </a:xfrm>
          <a:prstGeom prst="rect">
            <a:avLst/>
          </a:prstGeom>
          <a:ln w="0">
            <a:noFill/>
          </a:ln>
        </p:spPr>
      </p:pic>
      <p:sp>
        <p:nvSpPr>
          <p:cNvPr id="69" name="同侧圆角矩形 6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651640" y="907920"/>
            <a:ext cx="3492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826920" y="1700280"/>
            <a:ext cx="468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 flipH="1">
            <a:off x="926280" y="4913280"/>
            <a:ext cx="1081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 flipH="1">
            <a:off x="4788000" y="4897440"/>
            <a:ext cx="1023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同侧圆角矩形 6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40"/>
          <p:cNvSpPr/>
          <p:nvPr/>
        </p:nvSpPr>
        <p:spPr>
          <a:xfrm>
            <a:off x="971640" y="170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摆一摆，算一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oup 19"/>
          <p:cNvGrpSpPr/>
          <p:nvPr/>
        </p:nvGrpSpPr>
        <p:grpSpPr>
          <a:xfrm>
            <a:off x="4643280" y="981000"/>
            <a:ext cx="4105440" cy="2932200"/>
            <a:chOff x="4643280" y="981000"/>
            <a:chExt cx="4105440" cy="2932200"/>
          </a:xfrm>
        </p:grpSpPr>
        <p:pic>
          <p:nvPicPr>
            <p:cNvPr id="80" name="Picture 13" descr="20"/>
            <p:cNvPicPr/>
            <p:nvPr/>
          </p:nvPicPr>
          <p:blipFill>
            <a:blip r:embed="rId1"/>
            <a:stretch/>
          </p:blipFill>
          <p:spPr>
            <a:xfrm>
              <a:off x="6588000" y="1341360"/>
              <a:ext cx="216072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AutoShape 14"/>
            <p:cNvSpPr/>
            <p:nvPr/>
          </p:nvSpPr>
          <p:spPr>
            <a:xfrm>
              <a:off x="4643280" y="981000"/>
              <a:ext cx="3600360" cy="575280"/>
            </a:xfrm>
            <a:prstGeom prst="wedgeRoundRectCallout">
              <a:avLst>
                <a:gd name="adj1" fmla="val 29750"/>
                <a:gd name="adj2" fmla="val 6525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自己编出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的乘法口诀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2" name="Picture 16" descr="54-2"/>
          <p:cNvPicPr/>
          <p:nvPr/>
        </p:nvPicPr>
        <p:blipFill>
          <a:blip r:embed="rId2"/>
          <a:srcRect l="0" t="52003" r="90682" b="0"/>
          <a:stretch/>
        </p:blipFill>
        <p:spPr>
          <a:xfrm>
            <a:off x="1547640" y="5300640"/>
            <a:ext cx="936720" cy="906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2627280" y="3789360"/>
            <a:ext cx="198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×2=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×1=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5003640" y="4076640"/>
            <a:ext cx="2438640" cy="66528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50000">
                <a:srgbClr val="ffffff"/>
              </a:gs>
              <a:gs pos="100000">
                <a:srgbClr val="cc66ff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二得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6" descr="54-2"/>
          <p:cNvPicPr/>
          <p:nvPr/>
        </p:nvPicPr>
        <p:blipFill>
          <a:blip r:embed="rId3"/>
          <a:srcRect l="0" t="0" r="94269" b="46604"/>
          <a:stretch/>
        </p:blipFill>
        <p:spPr>
          <a:xfrm>
            <a:off x="1692360" y="3860640"/>
            <a:ext cx="576000" cy="1008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2771640" y="5445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×2=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003640" y="5300640"/>
            <a:ext cx="2438640" cy="66528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50000">
                <a:srgbClr val="ffffff"/>
              </a:gs>
              <a:gs pos="100000">
                <a:srgbClr val="cc66ff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二得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4"/>
          <a:stretch/>
        </p:blipFill>
        <p:spPr>
          <a:xfrm>
            <a:off x="3867120" y="2440080"/>
            <a:ext cx="1552680" cy="771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5"/>
          <a:stretch/>
        </p:blipFill>
        <p:spPr>
          <a:xfrm>
            <a:off x="1468440" y="2482920"/>
            <a:ext cx="1609560" cy="780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6"/>
          <a:stretch/>
        </p:blipFill>
        <p:spPr>
          <a:xfrm>
            <a:off x="5526000" y="2482920"/>
            <a:ext cx="1552680" cy="771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5" descr="54-1"/>
          <p:cNvPicPr/>
          <p:nvPr/>
        </p:nvPicPr>
        <p:blipFill>
          <a:blip r:embed="rId1"/>
          <a:srcRect l="0" t="61387" r="88387" b="6312"/>
          <a:stretch/>
        </p:blipFill>
        <p:spPr>
          <a:xfrm>
            <a:off x="917640" y="5048280"/>
            <a:ext cx="936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93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94" name="直线连接符 21"/>
            <p:cNvSpPr/>
            <p:nvPr/>
          </p:nvSpPr>
          <p:spPr>
            <a:xfrm flipV="1">
              <a:off x="468360" y="157608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同侧圆角矩形 7"/>
            <p:cNvSpPr/>
            <p:nvPr/>
          </p:nvSpPr>
          <p:spPr>
            <a:xfrm>
              <a:off x="468360" y="92088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Text Box 5"/>
          <p:cNvSpPr/>
          <p:nvPr/>
        </p:nvSpPr>
        <p:spPr>
          <a:xfrm>
            <a:off x="1996920" y="37512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×3=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850000" y="3751200"/>
            <a:ext cx="2438280" cy="66528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50000">
                <a:srgbClr val="ffffff"/>
              </a:gs>
              <a:gs pos="100000">
                <a:srgbClr val="cc66ff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三得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同侧圆角矩形 1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14"/>
          <p:cNvSpPr/>
          <p:nvPr/>
        </p:nvSpPr>
        <p:spPr>
          <a:xfrm>
            <a:off x="971640" y="17002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小棒摆三角形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Group 19"/>
          <p:cNvGrpSpPr/>
          <p:nvPr/>
        </p:nvGrpSpPr>
        <p:grpSpPr>
          <a:xfrm>
            <a:off x="4859280" y="981000"/>
            <a:ext cx="3745080" cy="3219480"/>
            <a:chOff x="4859280" y="981000"/>
            <a:chExt cx="3745080" cy="3219480"/>
          </a:xfrm>
        </p:grpSpPr>
        <p:pic>
          <p:nvPicPr>
            <p:cNvPr id="101" name="Picture 13" descr="20"/>
            <p:cNvPicPr/>
            <p:nvPr/>
          </p:nvPicPr>
          <p:blipFill>
            <a:blip r:embed="rId2"/>
            <a:stretch/>
          </p:blipFill>
          <p:spPr>
            <a:xfrm>
              <a:off x="6443640" y="1628640"/>
              <a:ext cx="216072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AutoShape 14"/>
            <p:cNvSpPr/>
            <p:nvPr/>
          </p:nvSpPr>
          <p:spPr>
            <a:xfrm>
              <a:off x="4859280" y="981000"/>
              <a:ext cx="3240360" cy="891000"/>
            </a:xfrm>
            <a:prstGeom prst="wedgeRoundRectCallout">
              <a:avLst>
                <a:gd name="adj1" fmla="val 27337"/>
                <a:gd name="adj2" fmla="val 8145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请你照着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的乘法口诀，自己编出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的乘法口诀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3" name="Picture 15" descr="54-1"/>
          <p:cNvPicPr/>
          <p:nvPr/>
        </p:nvPicPr>
        <p:blipFill>
          <a:blip r:embed="rId3"/>
          <a:srcRect l="0" t="0" r="95522" b="67699"/>
          <a:stretch/>
        </p:blipFill>
        <p:spPr>
          <a:xfrm>
            <a:off x="1060560" y="3679920"/>
            <a:ext cx="361800" cy="718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54-1"/>
          <p:cNvPicPr/>
          <p:nvPr/>
        </p:nvPicPr>
        <p:blipFill>
          <a:blip r:embed="rId4"/>
          <a:srcRect l="0" t="31346" r="91086" b="35398"/>
          <a:stretch/>
        </p:blipFill>
        <p:spPr>
          <a:xfrm>
            <a:off x="988920" y="4398840"/>
            <a:ext cx="720720" cy="741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3868560" y="37512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×1=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996920" y="44719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×3=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868560" y="44719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×2=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813280" y="4471920"/>
            <a:ext cx="2438640" cy="66528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50000">
                <a:srgbClr val="ffffff"/>
              </a:gs>
              <a:gs pos="100000">
                <a:srgbClr val="cc66ff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三得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996920" y="51912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×3=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5813280" y="5119560"/>
            <a:ext cx="2438640" cy="66528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50000">
                <a:srgbClr val="ffffff"/>
              </a:gs>
              <a:gs pos="100000">
                <a:srgbClr val="cc66ff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三得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G49a+.eps" descr="id:2147502160;FounderCES"/>
          <p:cNvPicPr/>
          <p:nvPr/>
        </p:nvPicPr>
        <p:blipFill>
          <a:blip r:embed="rId5"/>
          <a:srcRect l="0" t="0" r="87359" b="0"/>
          <a:stretch/>
        </p:blipFill>
        <p:spPr>
          <a:xfrm>
            <a:off x="1063800" y="2405160"/>
            <a:ext cx="1009440" cy="798480"/>
          </a:xfrm>
          <a:prstGeom prst="rect">
            <a:avLst/>
          </a:prstGeom>
          <a:ln w="0">
            <a:noFill/>
          </a:ln>
        </p:spPr>
      </p:pic>
      <p:pic>
        <p:nvPicPr>
          <p:cNvPr id="112" name="G49a+.eps" descr="id:2147502160;FounderCES"/>
          <p:cNvPicPr/>
          <p:nvPr/>
        </p:nvPicPr>
        <p:blipFill>
          <a:blip r:embed="rId6"/>
          <a:srcRect l="24843" t="0" r="45634" b="0"/>
          <a:stretch/>
        </p:blipFill>
        <p:spPr>
          <a:xfrm>
            <a:off x="2327400" y="2405160"/>
            <a:ext cx="1984320" cy="777600"/>
          </a:xfrm>
          <a:prstGeom prst="rect">
            <a:avLst/>
          </a:prstGeom>
          <a:ln w="0">
            <a:noFill/>
          </a:ln>
        </p:spPr>
      </p:pic>
      <p:pic>
        <p:nvPicPr>
          <p:cNvPr id="113" name="G49a+.eps" descr="id:2147502160;FounderCES"/>
          <p:cNvPicPr/>
          <p:nvPr/>
        </p:nvPicPr>
        <p:blipFill>
          <a:blip r:embed="rId7"/>
          <a:srcRect l="60976" t="0" r="0" b="0"/>
          <a:stretch/>
        </p:blipFill>
        <p:spPr>
          <a:xfrm>
            <a:off x="4257720" y="2490840"/>
            <a:ext cx="2660760" cy="7635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2013120" y="59054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×1=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865680" y="591012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一得（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5508720" y="59101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1"/>
          <p:cNvSpPr/>
          <p:nvPr/>
        </p:nvSpPr>
        <p:spPr>
          <a:xfrm>
            <a:off x="1258920" y="27082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：两个数相乘的积一定比这两个数的和大。（      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36"/>
          <p:cNvSpPr/>
          <p:nvPr/>
        </p:nvSpPr>
        <p:spPr>
          <a:xfrm>
            <a:off x="1258920" y="2565360"/>
            <a:ext cx="691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做题时一定要考虑全面，通过举例验证看看该题是否正确。例如：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×1=1,1+1=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两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乘的积小于两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加的和；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×2=2,2+2=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两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乘的积等于两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加的和。所以本题的说法是错误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84360" y="4869000"/>
            <a:ext cx="1842840" cy="1431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971640" y="177336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1403280" y="306864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：两个数相乘的积一定比这两个数的和大。（      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6012000" y="364500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uichuanxin</dc:creator>
  <dc:description/>
  <dc:language>en-US</dc:language>
  <cp:lastModifiedBy>ww.xkb1.com</cp:lastModifiedBy>
  <dcterms:modified xsi:type="dcterms:W3CDTF">2016-08-19T07:45:57Z</dcterms:modified>
  <cp:revision>402</cp:revision>
  <dc:subject/>
  <dc:title>幻灯片 1</dc:title>
</cp:coreProperties>
</file>